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8B8-DA7A-435C-A490-75AE7DA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C3C-BC1B-4F82-B306-3D54A5BE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CCC-847A-49B9-927C-E45CE6E0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592-D290-4A23-AFDA-5AEB5324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007-2FEE-4B2A-A898-3F3E33D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546-C1DE-4FA4-AA72-59DEE359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CE2-9FC3-4716-962B-1E066FC2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2AA-4FC6-4A13-8672-2D49919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190-58CF-4379-92AC-C5E52BF5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E51-5428-4987-B47B-095C086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1AFD-BAD3-4A8D-9BB2-52F54064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1470-FECD-49A9-B8AD-4A52D7B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01FD-9ED4-46C4-8AAA-8008E22B551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cristobal-colon.wikispaces.com/Nuestras+obras+de+arte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355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3733920"/>
            <a:ext cx="521964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3 CuadroTexto"/>
          <p:cNvSpPr/>
          <p:nvPr/>
        </p:nvSpPr>
        <p:spPr>
          <a:xfrm>
            <a:off x="493236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resentamos nuestras cre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6:47Z</dcterms:created>
  <dc:creator>Mari</dc:creator>
  <dc:description/>
  <dc:language>en-US</dc:language>
  <cp:lastModifiedBy>Mari</cp:lastModifiedBy>
  <dcterms:modified xsi:type="dcterms:W3CDTF">2015-04-21T19:22:35Z</dcterms:modified>
  <cp:revision>1</cp:revision>
  <dc:subject/>
  <dc:title>Diapositiva 1</dc:title>
</cp:coreProperties>
</file>